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jpeg" ContentType="image/jpeg"/>
  <Override PartName="/ppt/media/image24.png" ContentType="image/png"/>
  <Override PartName="/ppt/media/image2.jpeg" ContentType="image/jpeg"/>
  <Override PartName="/ppt/media/image2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BF62-957F-41C8-8145-AF5676E1E49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AD24-5D89-4B84-94BD-E03C3313586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Palatino Linotyp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9055-1691-40A0-8183-7C6F234F50C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9FCB-E022-4797-961B-D99F368DE48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5772-D3FF-4D73-9FF7-0107F2E2577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3A95-0EDB-4EAC-A869-5F95D4BCF70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B6DE-5C5D-4DBF-BDA8-DD6F2EB259D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A491-231D-4328-8BE5-EFBAEEADE80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6899-B4E6-47FA-A84A-AAA779F2255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93C4-2DE0-452B-B88D-1D48922530D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0000-B990-459C-B1A3-5796FE78C60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0B4C-9F6F-4C55-8E5F-25A1FD416D5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0E6E-29BE-4622-90FB-A712F8929CA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EEDC-E935-4861-9316-F5C403267F3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0AFB-DDEE-4E91-940E-F221C4D110B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FF14-B35A-4D29-97C9-98C493D0A06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5352-3E0A-41B4-8951-17104762EA1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4973-0094-40B6-9B4C-65C91EF2F14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9469-B503-4B2F-B524-8CF2E55DFFE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3758-F90C-48F9-9116-F432CE22694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27E1-BF33-446B-97BE-2968D01E502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C0A1-2891-435A-A1AE-3D745A0C3E1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5F89-13A3-4E3E-8A5D-289291A4FDA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6912-ABC2-4964-9B48-61EB4A9E200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4709-2394-4E7A-AD0D-EB5EF4EC1A3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A5C68-0038-4D25-A5AE-182896C3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886F-E5B6-4E9E-984D-868223F6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A9FE9-1A75-4045-841F-4228F4A8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5CAF5-D099-4D4B-9020-2E997E91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4CCF-0251-4987-A189-65E32AA0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3230-6891-4F65-82F0-5AE0B695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6B6A-7152-4850-AB4B-FD94A6B8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0598-E03E-4179-A795-5F467BE3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FA07-FB59-48B6-83C1-CD132309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3C15-E08C-48F4-B6F5-DB6EAC94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AC4F-E55B-4E76-9500-38244565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7613-B349-4981-B45B-3FC4ADD2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7510-D0EB-416D-8E40-41384788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1C4F-0AFD-4FBA-A1EB-784D3605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6035-C805-4083-A4C4-5740AAFA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F089-C562-493F-B99B-76A82C8F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77F2-281B-4360-ABBF-FC8F21A2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BF65C-7781-4C37-8AA2-5AF140BFD0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0DD6F-1989-414E-9FD1-36F8AE8D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38F31A-50FC-43BD-86F1-DDC0EC18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3C9BE-AEC1-4394-B2CF-B104E1E4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A6D62-4D9E-4599-89A7-CA2C8736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D643C-514D-4834-A348-936CB1A3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1A4CA-EE7B-47D4-963C-943F265D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57D5A-4C94-43F6-BF42-ED2C80B5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D2389-0BDD-430F-84BA-08DCF655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AB190-59FD-4B14-88D9-B5624A52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A4ADE-39C9-4323-8675-540EB1C1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7CF6D-B547-4369-8316-9DFD3D15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F810D-DDA0-40C7-9381-AC12C5630A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5DAC0-A3D7-442D-9539-101796AB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13AAB-0615-4AA0-AA98-9055C7F2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5F01E-79C4-4D48-8680-9A488F14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10F25-79CD-4F57-84F3-13E7947D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FD39A-206C-4383-94D0-A97472AD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13CBA-3231-4C8B-B33E-06D0E460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C199-4442-4732-BDAF-0F3D604A19D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51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6E1A-2BCC-4510-BF87-0F6044BFBD3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124080" y="6451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R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8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26DE-D30A-432D-8158-7F648E1FABB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2"/>
          <p:cNvSpPr/>
          <p:nvPr/>
        </p:nvSpPr>
        <p:spPr>
          <a:xfrm>
            <a:off x="0" y="6424560"/>
            <a:ext cx="3762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</a:t>
            </a: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K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6B28-D5B3-4CB6-880C-6EC1CD6064E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RS" sz="4000" spc="-1" strike="noStrike">
                <a:solidFill>
                  <a:srgbClr val="000066"/>
                </a:solidFill>
                <a:latin typeface="Palatino Linotype"/>
              </a:rPr>
              <a:t>Визуализационе технике у оралној хирургији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120" y="4060800"/>
            <a:ext cx="864252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1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</a:t>
            </a:r>
            <a:r>
              <a:rPr b="1" i="1" lang="en-US" sz="1400" spc="-1" strike="noStrike">
                <a:solidFill>
                  <a:srgbClr val="000000"/>
                </a:solidFill>
                <a:latin typeface="Palatino Linotype"/>
              </a:rPr>
              <a:t>Драган Газивод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58248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8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Компјутеризована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томографија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коничног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облика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X-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зрачног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сноп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ада се открије патолошка промена при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скенирању треба проценити следеће карактеристике: локализацију, границе и облик, унутрашњу структуру и утицај лезије на суседне структуре.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Што се тиче локализације, потребно је утврдити да ли је промена у вилицама или у другим коштаним структурама или у меким ткивима око вилица? Ако је у вилицама, да ли је око подручја зуба, што указује на одонтогено порекло лезије или ван овог подручја?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Да ли постоји једна промена или више, сличних промена? Да ли је промена локализована или генерализована? Да ли узрокује експанзију вилице?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4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770D-6311-441F-BAF2-AB302DEE6FF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5"/>
          <p:cNvSpPr/>
          <p:nvPr/>
        </p:nvSpPr>
        <p:spPr>
          <a:xfrm>
            <a:off x="3124080" y="6451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8DE3-5F58-4FA9-A404-63AB2CE1795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</a:t>
            </a:r>
            <a:r>
              <a:rPr b="1" i="1" lang="en-US" sz="3600" spc="-1" strike="noStrike">
                <a:solidFill>
                  <a:srgbClr val="000066"/>
                </a:solidFill>
                <a:latin typeface="Palatino Linotype"/>
              </a:rPr>
              <a:t> –</a:t>
            </a: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процена импактираних зуб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15800" y="1587240"/>
            <a:ext cx="82296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е открића тродимензионалне (3D) компјутеризоване дијагностика орални хирурзи имали су проблем у одређивању тачне просторне орјентације импактираних зуба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анорамска радиографија, ретроалвеоларно и аксијално снимање најчешће су коришћене радиографске технике у дијагностици импактираних зуба, а лекару дају дводимензионалну (2D) представу сниманих структура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02" name="Picture 6" descr="images.jpg"/>
          <p:cNvPicPr/>
          <p:nvPr/>
        </p:nvPicPr>
        <p:blipFill>
          <a:blip r:embed="rId1"/>
          <a:stretch/>
        </p:blipFill>
        <p:spPr>
          <a:xfrm>
            <a:off x="2406600" y="4205160"/>
            <a:ext cx="40212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</a:t>
            </a:r>
            <a:r>
              <a:rPr b="1" i="1" lang="en-US" sz="3600" spc="-1" strike="noStrike">
                <a:solidFill>
                  <a:srgbClr val="000066"/>
                </a:solidFill>
                <a:latin typeface="Palatino Linotype"/>
              </a:rPr>
              <a:t> –</a:t>
            </a: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процена импактираних зуб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Визуелне информације добијене на овај начин пружају глобални поглед на облик и висину циљаних структура, али прецизност изостаје јер имају фактор деформисања око 25% 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Тродимензионална (3D) компјутеризована дијагностика у виду компјутеризоване томографије (CT) и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Cone Beam Computed Tomography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(CBCT) технологије, омогућава прецизност и до 1 mm и не доводи до дисторзије слике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77D0-263B-439D-8C11-B580A13B514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3124080" y="6451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images (1).jpg"/>
          <p:cNvPicPr/>
          <p:nvPr/>
        </p:nvPicPr>
        <p:blipFill>
          <a:blip r:embed="rId1"/>
          <a:stretch/>
        </p:blipFill>
        <p:spPr>
          <a:xfrm>
            <a:off x="2882880" y="4130640"/>
            <a:ext cx="326880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4DF4-691E-4E6B-8D81-81C9988D82A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</a:t>
            </a:r>
            <a:r>
              <a:rPr b="1" i="1" lang="en-US" sz="3600" spc="-1" strike="noStrike">
                <a:solidFill>
                  <a:srgbClr val="000066"/>
                </a:solidFill>
                <a:latin typeface="Palatino Linotype"/>
              </a:rPr>
              <a:t> –</a:t>
            </a: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процена импактираних зуб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Хируршко вађење импактираних зуба захтева прецизно познавање локализације зуба у вилици и његов однос према другим зубима и околним анатомским структурама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мандибули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, однос коренова импактираних трећих молара и мандибуларног канала мора бити прецизно процењен, јер је канал често у врло блиском односу са импактираним моларим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14" name="Picture 6" descr="images (2).jpg"/>
          <p:cNvPicPr/>
          <p:nvPr/>
        </p:nvPicPr>
        <p:blipFill>
          <a:blip r:embed="rId1"/>
          <a:stretch/>
        </p:blipFill>
        <p:spPr>
          <a:xfrm>
            <a:off x="5653080" y="3954600"/>
            <a:ext cx="2381400" cy="1914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images (3).jpg"/>
          <p:cNvPicPr/>
          <p:nvPr/>
        </p:nvPicPr>
        <p:blipFill>
          <a:blip r:embed="rId2"/>
          <a:stretch/>
        </p:blipFill>
        <p:spPr>
          <a:xfrm>
            <a:off x="679320" y="4044960"/>
            <a:ext cx="425628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640E-3E67-4811-A6D2-484DB1B0194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</a:t>
            </a:r>
            <a:r>
              <a:rPr b="1" i="1" lang="en-US" sz="3600" spc="-1" strike="noStrike">
                <a:solidFill>
                  <a:srgbClr val="000066"/>
                </a:solidFill>
                <a:latin typeface="Palatino Linotype"/>
              </a:rPr>
              <a:t> –</a:t>
            </a: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процена импактираних зуб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нимањ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BCT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м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могућав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ецизну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оцену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оложај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еђусобног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днос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анатомских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труктур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в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тр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димензиј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што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ј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клиничким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условим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осебно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важно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иликом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дређивањ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букооралног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оложај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андибуларног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канал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дносу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н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дубоко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мпактирани доњ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умњак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кој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н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ож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отпуном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игурношћу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дредит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н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дводимензионалним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ртопантомографским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нимцим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21" name="Picture 6" descr="8000688_orig.jpg"/>
          <p:cNvPicPr/>
          <p:nvPr/>
        </p:nvPicPr>
        <p:blipFill>
          <a:blip r:embed="rId1"/>
          <a:stretch/>
        </p:blipFill>
        <p:spPr>
          <a:xfrm>
            <a:off x="2617920" y="3390840"/>
            <a:ext cx="3298680" cy="29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</a:t>
            </a:r>
            <a:r>
              <a:rPr b="1" i="1" lang="en-US" sz="3600" spc="-1" strike="noStrike">
                <a:solidFill>
                  <a:srgbClr val="000066"/>
                </a:solidFill>
                <a:latin typeface="Palatino Linotype"/>
              </a:rPr>
              <a:t> –</a:t>
            </a: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процена импактираних зуб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1393560"/>
            <a:ext cx="782784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У 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максили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, локализација импактираних очњака у односу на бочне и централне секутиће је главна за процену њиховог вађења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Панорамска или периапикалана радиографија су често неадекватне за лоцирање импактираних максиларних очњака и за идентификацију њиховог односа с кореновима латералних секутића.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4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37ED-7258-445E-8F3B-4AEFEE7E533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5"/>
          <p:cNvSpPr/>
          <p:nvPr/>
        </p:nvSpPr>
        <p:spPr>
          <a:xfrm>
            <a:off x="3124080" y="6451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images (4).jpg"/>
          <p:cNvPicPr/>
          <p:nvPr/>
        </p:nvPicPr>
        <p:blipFill>
          <a:blip r:embed="rId1"/>
          <a:stretch/>
        </p:blipFill>
        <p:spPr>
          <a:xfrm>
            <a:off x="5456160" y="4170240"/>
            <a:ext cx="2774880" cy="19036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7"/>
          <p:cNvSpPr/>
          <p:nvPr/>
        </p:nvSpPr>
        <p:spPr>
          <a:xfrm>
            <a:off x="-208080" y="4325760"/>
            <a:ext cx="5389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Информације о палаталној оријентацији импактираног очњака и његовој блискости са кореном латералног секутића су од посебног значаја како би се омогућила ефикасна и правовремена хируршка интервен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CBCT-for-impacted-canine.jpg"/>
          <p:cNvPicPr/>
          <p:nvPr/>
        </p:nvPicPr>
        <p:blipFill>
          <a:blip r:embed="rId2"/>
          <a:stretch/>
        </p:blipFill>
        <p:spPr>
          <a:xfrm>
            <a:off x="7345440" y="1898640"/>
            <a:ext cx="1614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</a:t>
            </a:r>
            <a:r>
              <a:rPr b="1" i="1" lang="en-US" sz="3600" spc="-1" strike="noStrike">
                <a:solidFill>
                  <a:srgbClr val="000066"/>
                </a:solidFill>
                <a:latin typeface="Palatino Linotype"/>
              </a:rPr>
              <a:t> –</a:t>
            </a: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процена импактираних зуб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Хируршко ослобађање круница очњака за постављање ортодонтских бравица може захтевати вишеструку периапикалну радиографију добијену из различитих хоризонталних или вертикалних углова. Коришћење 3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 реконструкције омогућава потпунију визуелну слику за терапију ортодонта како би обезбедили одговарајуће векторе за кретање зуба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2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2D7F-0557-422C-987A-5B74BA4CAC6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3124080" y="6451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cbct-impacted-canine.jpg"/>
          <p:cNvPicPr/>
          <p:nvPr/>
        </p:nvPicPr>
        <p:blipFill>
          <a:blip r:embed="rId1"/>
          <a:stretch/>
        </p:blipFill>
        <p:spPr>
          <a:xfrm>
            <a:off x="374760" y="3513240"/>
            <a:ext cx="84913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</a:t>
            </a:r>
            <a:r>
              <a:rPr b="1" i="1" lang="en-US" sz="3600" spc="-1" strike="noStrike">
                <a:solidFill>
                  <a:srgbClr val="000066"/>
                </a:solidFill>
                <a:latin typeface="Palatino Linotype"/>
              </a:rPr>
              <a:t> –</a:t>
            </a: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процена импактираних зуб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Однос горњег трећег молара са максиларним синусом је такође важан у екстракцији трећих молара. Ако хирург у почетку зна да молар не комуницира са максиларним синусом, флап може бити мањи, и ако зна да ће настати ороантрална комуникација након екстракције зуба, он може изабрати другачији, обично шири приступ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BEE6-49F9-4989-A035-30D59E6312B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3124080" y="6451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isd-45-233-g004-l.jpg"/>
          <p:cNvPicPr/>
          <p:nvPr/>
        </p:nvPicPr>
        <p:blipFill>
          <a:blip r:embed="rId1"/>
          <a:stretch/>
        </p:blipFill>
        <p:spPr>
          <a:xfrm>
            <a:off x="2317680" y="3641760"/>
            <a:ext cx="428796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</a:t>
            </a:r>
            <a:r>
              <a:rPr b="1" i="1" lang="en-US" sz="3600" spc="-1" strike="noStrike">
                <a:solidFill>
                  <a:srgbClr val="000066"/>
                </a:solidFill>
                <a:latin typeface="Palatino Linotype"/>
              </a:rPr>
              <a:t> –</a:t>
            </a: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процена импактираних зуб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93680" y="1407960"/>
            <a:ext cx="895032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Детаљан и тачан 3D приказ ствара специјалисти неопходне услове за разматрање свих могућности решавања импактираног зуба сходно његовом положају и облику и евентуалном патолошком процесу који га прати (цисте, тумори и др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а је специјалиста у стању да планира пут извлачења, тј. екстракције тако да не оштети блиске осетљиве анатомске структуре попут мандибуларног канала и његовог садржаја, форамена ментале са садржајем, максиларног синуса, пода носа и др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4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E936-0A05-4425-8ADE-71E3D2FD516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5"/>
          <p:cNvSpPr/>
          <p:nvPr/>
        </p:nvSpPr>
        <p:spPr>
          <a:xfrm>
            <a:off x="3124080" y="6451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017960" y="3917880"/>
            <a:ext cx="336708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</a:t>
            </a:r>
            <a:r>
              <a:rPr b="1" i="1" lang="en-US" sz="3600" spc="-1" strike="noStrike">
                <a:solidFill>
                  <a:srgbClr val="000066"/>
                </a:solidFill>
                <a:latin typeface="Palatino Linotype"/>
              </a:rPr>
              <a:t> –</a:t>
            </a: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процена импактираних зуб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Реконструисани 3D модел пружа праве информације и за доношење одлуке о могућности и прихватљивости хируршко-ортодонтског извлачења импактираног зуба, јер се кост на моделу може дигитално уклонити и трасирати пут зубу, те се на овај начин спасити од екстракције и великих коштаних дефеката, пре свега горњи очњаци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еглед реконструисаног 3D модела даје јасне и недвосмислене односе импактираних зуба и пратећих одонтогених цисти према ресорпцији коренова суседних зуба, али и могуће ресорпције коренова самих импактираних зуба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3D модел служи као основа за навигациони процес у току саме интервенције хируршке екстракције импактираних зуб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B25C-3F83-400B-BA6F-0AAA89C2138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3124080" y="6451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5AFE-086E-4F81-BA72-FA00458B123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Компјутеризована орална хирургиј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30200" y="135252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омпјутер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стај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в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заступљениј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дијагностичком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роцес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ланирањ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раћењ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терапиј</a:t>
            </a:r>
            <a:r>
              <a:rPr b="0" lang="sr-RS" sz="2000" spc="-1" strike="noStrike">
                <a:solidFill>
                  <a:srgbClr val="000000"/>
                </a:solidFill>
                <a:latin typeface="Palatino Linotype"/>
              </a:rPr>
              <a:t>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ак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медицин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так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томатологиј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стал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аставн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де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кор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в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страживањ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томатологиј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наш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дужност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шт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бољ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познам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начином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њиховог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функционисањ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њиховим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могућностим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ак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б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њихов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моћ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шт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бољ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скористил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54" name="Picture 6" descr="images.jpg"/>
          <p:cNvPicPr/>
          <p:nvPr/>
        </p:nvPicPr>
        <p:blipFill>
          <a:blip r:embed="rId1"/>
          <a:stretch/>
        </p:blipFill>
        <p:spPr>
          <a:xfrm>
            <a:off x="3186000" y="4595760"/>
            <a:ext cx="2800440" cy="16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0C69-FDB2-4DD6-ACEA-E573E5853D7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- процена</a:t>
            </a:r>
            <a:r>
              <a:rPr b="1" i="1" lang="en-US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јачине</a:t>
            </a:r>
            <a:r>
              <a:rPr b="1" i="1" lang="en-US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мандибуле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Екстракција дубоко импактираних зуба може бити праћена компликацијом фрактуре мандибуле, због потребе за уклањањем великог дела кости или сама импакција може бити удружена са већим патолошким лезијама (цисте, тумори)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У оваквим случајевима компјутерска анализа и процена јачине мандибуле пре и/или после екстракције импактираног зуба помаже у доношењу квалитетних одлука у вези планирања екстракције, тока постоперативног лечења и могуће неопходности за терапијском профилаксом избегавања могуће фрактуре доње вилице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679A-5B55-445F-83DB-F2D6489250A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– бенигне лезије и цисте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Код процене циста или бенигних тумора, интраорална или панорамска радиографија показују само две димензије лезије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Насупрот томе,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BCT пружа увид у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све три димензије (аксијалној, короналној и сагиталној равни)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1378080" y="3827520"/>
            <a:ext cx="630540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D695-1E96-4607-894E-5AE2065971C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– бенигне лезије и цисте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Овакви вишеструки погледи пружају важне информације о присутности и обиму ресорпције кости, склерози суседне кости, кортикалне експанзије и унутрашњих или спољашњих калцификација..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Информације о просторном односу лезије са другим анатомским структурама на ортопану или ретроалвеоларним снимцима су ограничене и тешко се тумаче. Због надимања великог волумена ткива, екстраорални панаромаски снимци често не могу да дају поуздане информације о унутрашњој структури лезије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244520" y="2874960"/>
            <a:ext cx="6296040" cy="12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4C7E-AC3C-47E6-BA79-FD01439A1B1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– бенигне лезије и цисте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BCT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омогућава дебљину пресека до 0,1 мм. Ови танки пресеци омогућавају бољу визуализацију коштаних ивица лезије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Орални хирурзи се могу ослонити на панорамску радиографију ако су ивице цистичних или бенигних лезија добро дефинисане. Ако су ивице лоше дефинисане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BCT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представља бољу опција за постављање  дијагнозе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Поред прехируршке процене агресивних бенигних циста или тумора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BCT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је такође од помоћи у пост-хируршком праћењу ивица лезија које могу рецидивирати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405320" y="4595760"/>
            <a:ext cx="248112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8BE8-912C-44C6-A527-0786EDCE12D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– бенигне лезије и цисте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За планирање хируршке интервенције, може бити потребно мерење лезија из различитих углова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Мерења на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BCT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снимцима су прилично тачна са мање од 1% грешке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392120" y="2817720"/>
            <a:ext cx="6305760" cy="34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95EE-3118-493F-9F42-4CCF89F43A1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– максиларни синус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Дијагностика максиларног синусна је сложена, а са традиционалном 2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 радиографијом многи проблеми се могу превидети.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T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BCT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уређаји омогућавају анализу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инуса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и диференцијацију проблема унутар њега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T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скенирање може нам пружити боље квантитативне и квалитативне податке у поређењу са конвенционалним 2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 радиолошким методама, као што је панорамска радиографија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87" name="Picture 6" descr="sinus3.jpg"/>
          <p:cNvPicPr/>
          <p:nvPr/>
        </p:nvPicPr>
        <p:blipFill>
          <a:blip r:embed="rId1"/>
          <a:stretch/>
        </p:blipFill>
        <p:spPr>
          <a:xfrm>
            <a:off x="2592360" y="4008600"/>
            <a:ext cx="3808440" cy="21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3093-35DB-4011-81BB-1AC2867825D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– максиларни синус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393560"/>
            <a:ext cx="82296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Након адекватне 3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реконструкције, систем може показати полипе меких ткива и чак мерити њихове димензије. Тродимензионалне слике омогућавају ротацију, увећање, транспарентност и процену аксијалних и трансверзалних слајс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ва слике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Било да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 треба поставити импланте у горњу вилицу у регион склон перфорацији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или је неопходно извршити ревизију синуса због жалби или ороантралне комуникације, са доступном 3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 технологијом, хирурзи могу да користе интерактивне алате који омогућавају планирање и симулацију постављања графта, постављања имплантата, анализе запремине костију или планирања операција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93" name="Picture 6" descr="JIndianAcadOralMedRadiol_2015_27_1_48_167080_u2.jpg"/>
          <p:cNvPicPr/>
          <p:nvPr/>
        </p:nvPicPr>
        <p:blipFill>
          <a:blip r:embed="rId1"/>
          <a:stretch/>
        </p:blipFill>
        <p:spPr>
          <a:xfrm>
            <a:off x="3273480" y="4654440"/>
            <a:ext cx="2432160" cy="17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8148-12F8-40C4-A785-D6046034088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– максиларни синус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Постоперативно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T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скенирање може пружити информације о положају имплантата унутар синуса и количини новостворене кости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99" name="Picture 6" descr="CBCT-post-sinus-lift-kazemi-oral-surgery-bethesda-1.jpg"/>
          <p:cNvPicPr/>
          <p:nvPr/>
        </p:nvPicPr>
        <p:blipFill>
          <a:blip r:embed="rId1"/>
          <a:stretch/>
        </p:blipFill>
        <p:spPr>
          <a:xfrm>
            <a:off x="1547640" y="2670120"/>
            <a:ext cx="580896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F22C-2F61-4640-BBA5-A786340A4F2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– максиларни синус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СТРАНА</a:t>
            </a:r>
            <a:r>
              <a:rPr b="1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ТЕЛ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Траумом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ли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јатрогено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доспел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тран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тел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опут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корен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мплантат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нструмент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тисн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ас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ли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аугментацијског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атеријал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лако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тaчно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огу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локализовати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ож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утврдити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да ли се налазе у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шупљини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инус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ли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убмукозно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т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исуство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акутн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упал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ли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хроничних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омен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ко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траних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тел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349280" y="4025880"/>
            <a:ext cx="63057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D28C-E89A-4605-A27D-702BB07FA0F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– трауме и фрактуре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199880"/>
            <a:ext cx="82296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Траум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аксилофацијалн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региј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бично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адрж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комбиноване повред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различитих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труктур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. 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D дијагностиком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огућ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ј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добит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велик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број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важних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нформациј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током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имарн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дијагностик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траум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будућ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д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ј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нимком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огућ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бухватит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целу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регију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вим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отенцијалним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л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утврђеним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фрактурам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висцерокранијум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2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D дијагностику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отребно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ј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употпунит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3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D CT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м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11" name="Picture 6" descr="case_1.jpg"/>
          <p:cNvPicPr/>
          <p:nvPr/>
        </p:nvPicPr>
        <p:blipFill>
          <a:blip r:embed="rId1"/>
          <a:stretch/>
        </p:blipFill>
        <p:spPr>
          <a:xfrm>
            <a:off x="2773440" y="4371840"/>
            <a:ext cx="344808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5F9F-75B7-4C47-BF88-425F39658B5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Компјутеризована орална хирургиј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98600" y="15192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ралној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максилофацијалној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хирургиј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данас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долаз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д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себн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експанзиј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омпјутер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љ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дигиталн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imaging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технологиј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себног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значај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T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BCT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MRI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3D ултразвук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ал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т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омпјутерск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апликациј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ој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функциониш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линичком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збрињавањ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болесник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едукациј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страживањим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пут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метод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крининговањ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ралн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лезија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амим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нтервенцијам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омпјутеризација с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глед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ланирањ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имулациј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перативног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ток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навигациј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хируршког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алат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ал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стоперативном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раћењ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болесник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E5BF-7EDA-44F1-8FD8-9B13C3FEEAA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– трауме и фрактуре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Дијагноза једноставне фрактуре зуба или вилице може се постићи с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a периапикалном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или панорамском радиографијом. Првобитна процена комплексне фрактуре вилице може се обавити и са обичним снимком. Међутим, вертикални прелом корена или вишеструких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преломи вилица са измештањем ко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штаних фрагмената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 могу се боље процијенити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BCT-ом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17" name="Picture 7" descr=""/>
          <p:cNvPicPr/>
          <p:nvPr/>
        </p:nvPicPr>
        <p:blipFill>
          <a:blip r:embed="rId1"/>
          <a:stretch/>
        </p:blipFill>
        <p:spPr>
          <a:xfrm>
            <a:off x="2235240" y="3813120"/>
            <a:ext cx="492444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43B4-AFD4-402D-A539-079A679DB7B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– имплантологиј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36692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Д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би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дабрало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дговарајућ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есто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мплантат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отребна ј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тачн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нформациј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расположивој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кости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њеном квалитету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ецизн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локализациј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критичних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одручј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есто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гд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налази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андибуларни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канал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ли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аксиларни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инус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ож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дредити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тачни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лако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Уз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омоћ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аралелног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иказ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в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три димензиј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ерних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функциј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т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датотек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мплантат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огућ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ј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оуздано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ерење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мплантолошког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захвата</a:t>
            </a:r>
            <a:r>
              <a:rPr b="0" lang="hr-HR" sz="1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23" name="Picture 6" descr="Cases-CBCT-Implant-Azevedo-pic-3--fail.jpg"/>
          <p:cNvPicPr/>
          <p:nvPr/>
        </p:nvPicPr>
        <p:blipFill>
          <a:blip r:embed="rId1"/>
          <a:stretch/>
        </p:blipFill>
        <p:spPr>
          <a:xfrm>
            <a:off x="2846520" y="4218120"/>
            <a:ext cx="2736720" cy="20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AA24-4125-44FA-980C-AB9B5FC6F73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600" spc="-1" strike="noStrike">
                <a:solidFill>
                  <a:srgbClr val="000066"/>
                </a:solidFill>
                <a:latin typeface="Palatino Linotype"/>
              </a:rPr>
              <a:t>CBCT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– постоперативни ток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328" name="Content Placeholder 7" descr="download.jpg"/>
          <p:cNvPicPr/>
          <p:nvPr/>
        </p:nvPicPr>
        <p:blipFill>
          <a:blip r:embed="rId1"/>
          <a:stretch/>
        </p:blipFill>
        <p:spPr>
          <a:xfrm>
            <a:off x="622440" y="2293920"/>
            <a:ext cx="3246120" cy="2430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bio3_clinical case_implantology_1494837409.png"/>
          <p:cNvPicPr/>
          <p:nvPr/>
        </p:nvPicPr>
        <p:blipFill>
          <a:blip r:embed="rId2"/>
          <a:stretch/>
        </p:blipFill>
        <p:spPr>
          <a:xfrm>
            <a:off x="4457880" y="2593800"/>
            <a:ext cx="3886200" cy="18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678D-7386-44ED-AD00-8B99776A90E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sr-Latn-C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Двадесетпрви век је век компјутера и огромног техничког развој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омпјутер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незадржив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лаз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в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бласт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медицин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допринос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великом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већањ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валитет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здравствен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заштит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тановништв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стваривањ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рав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орист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омпјутер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неопходн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безбедит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добр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техничк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слов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ал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још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битниј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бразоват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собљ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нвестициј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уповин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адекватн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ређај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офтвер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редстављај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лакш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де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сл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ој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мож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једнократн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решават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770D-5888-47D6-B7E3-C51CD41F8E1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Компјутеризована орална хирургиј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6692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Дијагноз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пратећ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интервенциј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кој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св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виш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корист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помоћ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компјутеризован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оралн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хирургије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су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Palatino Linotype"/>
              </a:rPr>
              <a:t>Екстракциј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–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анатомиј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положај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корен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заостал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коренови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Palatino Linotype"/>
              </a:rPr>
              <a:t>Алвеотомиј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–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нагиб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положај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однос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прем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кост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околним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структурам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стадијум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развој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корен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Palatino Linotype"/>
              </a:rPr>
              <a:t>Цисте</a:t>
            </a:r>
            <a:r>
              <a:rPr b="1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1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Palatino Linotype"/>
              </a:rPr>
              <a:t>тумори</a:t>
            </a:r>
            <a:r>
              <a:rPr b="1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–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облик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величин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просторн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распрострањеност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однос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прем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осталим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анатомским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структурам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Palatino Linotype"/>
              </a:rPr>
              <a:t>Вестибулопластик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–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дебљин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гребен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осифицираност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 неравнине гребен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Palatino Linotype"/>
              </a:rPr>
              <a:t>Ортогнатска</a:t>
            </a:r>
            <a:r>
              <a:rPr b="1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Palatino Linotype"/>
              </a:rPr>
              <a:t>хирургиј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–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добра визуализациј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могућност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бољ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комуникациј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између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специјалист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симетриј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Palatino Linotype"/>
              </a:rPr>
              <a:t>асиметриј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Компјутеризована орална хирургиј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Реконструктивна</a:t>
            </a:r>
            <a:r>
              <a:rPr b="1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хирургија</a:t>
            </a:r>
            <a:r>
              <a:rPr b="1" lang="vi-VN" sz="1800" spc="-1" strike="noStrike">
                <a:solidFill>
                  <a:srgbClr val="000000"/>
                </a:solidFill>
                <a:latin typeface="Palatino Linotype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јасан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иказ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анатомских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труктур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лакш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ланирањ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захват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утврђивањ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редине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Апикотомија</a:t>
            </a:r>
            <a:r>
              <a:rPr b="1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ериапикалн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оцес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епуњеност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коштан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дефект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део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з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корен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Процене</a:t>
            </a:r>
            <a:r>
              <a:rPr b="1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1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ревизије</a:t>
            </a:r>
            <a:r>
              <a:rPr b="1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максиларног</a:t>
            </a:r>
            <a:r>
              <a:rPr b="1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синус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оцен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јачине</a:t>
            </a:r>
            <a:r>
              <a:rPr b="1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мандибуле</a:t>
            </a:r>
            <a:r>
              <a:rPr b="1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осебно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компјутерск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вођен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уградње</a:t>
            </a:r>
            <a:r>
              <a:rPr b="1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денталних</a:t>
            </a:r>
            <a:r>
              <a:rPr b="1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имплантат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2204-6340-4ED6-B13D-C071EF205BD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5"/>
          <p:cNvSpPr/>
          <p:nvPr/>
        </p:nvSpPr>
        <p:spPr>
          <a:xfrm>
            <a:off x="3124080" y="6451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39D8-C858-4E3C-8C4A-839C0C2B748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Компјутеризована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томографија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коничног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облика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X-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зрачног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сноп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омпјутеризован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томографиј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оничног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блик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X-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зрачног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ноп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енгл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. „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cone beam computed tomography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“ (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CBCT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рв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ут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оришћен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линиц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″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Меј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″ 1982.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годин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асним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1990-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м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годинам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долаз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д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развојa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мал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релативн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јефтин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радиолошк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дијагностичк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ређај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заснован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CBCT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технологиј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намењен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потреб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рофацијалној региј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75" name="Picture 7" descr="download.jpg"/>
          <p:cNvPicPr/>
          <p:nvPr/>
        </p:nvPicPr>
        <p:blipFill>
          <a:blip r:embed="rId1"/>
          <a:stretch/>
        </p:blipFill>
        <p:spPr>
          <a:xfrm>
            <a:off x="4510080" y="4052880"/>
            <a:ext cx="25416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Компјутеризована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томографија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коничног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облика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X-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зрачног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сноп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риказивањем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труктур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тр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димензиј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CBCT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метод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направи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ључн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ромен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радиолошкој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дијагностиц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максилофацијалн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региј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Тродимнзионалним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риказом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региј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нтерес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CBCT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методом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могућен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омпјутерск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вођењ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хируршк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роцедур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моћ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независн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офтвер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8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DBE2-F841-4940-BD0B-96ACAD0248D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3124080" y="6451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Cone_Beam_CT_principle.png"/>
          <p:cNvPicPr/>
          <p:nvPr/>
        </p:nvPicPr>
        <p:blipFill>
          <a:blip r:embed="rId1"/>
          <a:stretch/>
        </p:blipFill>
        <p:spPr>
          <a:xfrm>
            <a:off x="2878200" y="3851280"/>
            <a:ext cx="28144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8EF8-79B3-4170-BE7A-9C3DDE428D2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Компјутеризована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томографија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коничног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облика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X-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зрачног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сноп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CBCT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метод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мож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ористит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анализ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анатомск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труктур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дентомаксилофацијалној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региј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днос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зуб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колн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ткив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рецизн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тврђивањ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ложај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n. alveolaris inferior, sinus maxillaris</a:t>
            </a:r>
            <a:r>
              <a:rPr b="0" i="1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foramen mentale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моћ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CBCT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метод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могућав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линичарим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ланирањ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различит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терапијск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роцедур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дизањ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д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максиларног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инус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аугментациј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алвеоларног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гребен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стављањ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ендоосеалн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мплантат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вај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радиолошк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метод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могућав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одређивањ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зициј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мпактиран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рекобројн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зуб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а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тродимензионалн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риказ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темпоромантибуларн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зглобов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4641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Визуализационе технике у стоматолог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767B-F9FB-4724-B25E-64E0BF413EE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Компјутеризована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томографија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коничног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облика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X-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зрачног</a:t>
            </a:r>
            <a:r>
              <a:rPr b="1" i="1" lang="vi-VN" sz="36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RS" sz="3600" spc="-1" strike="noStrike">
                <a:solidFill>
                  <a:srgbClr val="000066"/>
                </a:solidFill>
                <a:latin typeface="Palatino Linotype"/>
              </a:rPr>
              <a:t>сноп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CBCT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метод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може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ористит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анализи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атолошк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ромена 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оштаном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ткиву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вилиц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насталих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ао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следица</a:t>
            </a:r>
            <a:r>
              <a:rPr b="0" lang="vi-VN" sz="20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ародонтопатије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Компликациј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каријес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Развојних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аномалиј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донтоген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цист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Ортодонтских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аномалиј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остекстракцион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ресорпциј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алвеоларног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гребен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Цист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тумор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релом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деформитета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аксилофацијалн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регије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CBCT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метод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с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може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користит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анализи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дисајних</a:t>
            </a:r>
            <a:r>
              <a:rPr b="0" lang="vi-V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путев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Kaja</dc:creator>
  <dc:description/>
  <dc:language>en-US</dc:language>
  <cp:lastModifiedBy>Mik</cp:lastModifiedBy>
  <dcterms:modified xsi:type="dcterms:W3CDTF">2018-02-03T15:45:24Z</dcterms:modified>
  <cp:revision>931</cp:revision>
  <dc:subject/>
  <dc:title>NAZIV PREDAVANJA</dc:title>
</cp:coreProperties>
</file>